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1C495-B7C2-4150-9DB4-E17CAC2D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87C9-9E36-4D16-A874-C4FEBB4FD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C32AE-5A7E-40AC-9233-3B6E3121D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D182B-1F4E-44D2-9B64-8B9FEA22F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7E024-1ED5-44CD-BB59-E209A111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B140-4548-458B-B532-EC618742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7D28-8845-4B79-82A7-EB161DA6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E553-C8F6-4099-8AC3-3E105E58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C9E2-915A-496E-80C9-D6B0A6901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EBEE-5606-49DF-8321-FD086C5C1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B439-2E80-4E3E-A74A-2F548B1F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27A6-8DF5-42A2-A169-259A6B21C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3DE4-59D0-486F-8F8E-ABD7716FD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topics.bloomberg.com/ron-paul/" TargetMode="External"/><Relationship Id="rId2" Type="http://schemas.openxmlformats.org/officeDocument/2006/relationships/hyperlink" Target="http://topics.bloomberg.com/texas/" TargetMode="External"/><Relationship Id="rId3" Type="http://schemas.openxmlformats.org/officeDocument/2006/relationships/hyperlink" Target="http://topics.bloomberg.com/washington/" TargetMode="External"/><Relationship Id="rId4" Type="http://schemas.openxmlformats.org/officeDocument/2006/relationships/hyperlink" Target="http://topics.bloomberg.com/rick-santorum/" TargetMode="External"/><Relationship Id="rId5" Type="http://schemas.openxmlformats.org/officeDocument/2006/relationships/hyperlink" Target="http://topics.bloomberg.com/pennsylvania/"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81760"/>
            <a:ext cx="6400800" cy="17524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BY: HUTCH BOYKIN</a:t>
            </a:r>
            <a:endParaRPr b="0" lang="en-US" sz="4400" spc="-1" strike="noStrike">
              <a:solidFill>
                <a:srgbClr val="000000"/>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1371600" y="304920"/>
            <a:ext cx="64008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RON PAUL</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43" name="" descr=""/>
          <p:cNvPicPr/>
          <p:nvPr/>
        </p:nvPicPr>
        <p:blipFill>
          <a:blip r:embed="rId1">
            <a:lum contrast="38000"/>
            <a:alphaModFix amt="71000"/>
          </a:blip>
          <a:stretch/>
        </p:blipFill>
        <p:spPr>
          <a:xfrm>
            <a:off x="2668680" y="2741760"/>
            <a:ext cx="3655800" cy="3114360"/>
          </a:xfrm>
          <a:prstGeom prst="rect">
            <a:avLst/>
          </a:prstGeom>
          <a:ln cap="rnd" w="88920">
            <a:solidFill>
              <a:srgbClr val="ff0000"/>
            </a:solidFill>
            <a:custDash>
              <a:ds d="100000" sp="1000"/>
            </a:custDash>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Government Spending (bailout, deb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U.S. REPRESENTATIVE </a:t>
            </a:r>
            <a:r>
              <a:rPr b="0" lang="en-US" sz="2800" spc="-1" strike="noStrike" u="sng">
                <a:solidFill>
                  <a:srgbClr val="009999"/>
                </a:solidFill>
                <a:uFillTx/>
                <a:latin typeface="comic"/>
                <a:hlinkClick r:id="rId1"/>
              </a:rPr>
              <a:t>RON PAUL</a:t>
            </a:r>
            <a:r>
              <a:rPr b="0" lang="en-US" sz="2800" spc="-1" strike="noStrike" u="sng">
                <a:solidFill>
                  <a:srgbClr val="000000"/>
                </a:solidFill>
                <a:uFillTx/>
                <a:latin typeface="comic"/>
              </a:rPr>
              <a:t> OF </a:t>
            </a:r>
            <a:r>
              <a:rPr b="0" lang="en-US" sz="2800" spc="-1" strike="noStrike" u="sng">
                <a:solidFill>
                  <a:srgbClr val="009999"/>
                </a:solidFill>
                <a:uFillTx/>
                <a:latin typeface="comic"/>
                <a:hlinkClick r:id="rId2"/>
              </a:rPr>
              <a:t>TEXAS</a:t>
            </a:r>
            <a:r>
              <a:rPr b="0" lang="en-US" sz="2800" spc="-1" strike="noStrike" u="sng">
                <a:solidFill>
                  <a:srgbClr val="000000"/>
                </a:solidFill>
                <a:uFillTx/>
                <a:latin typeface="comic"/>
              </a:rPr>
              <a:t>, TOUTING HIS OPPOSITION TO SPENDING BILLS IN </a:t>
            </a:r>
            <a:r>
              <a:rPr b="0" lang="en-US" sz="2800" spc="-1" strike="noStrike" u="sng">
                <a:solidFill>
                  <a:srgbClr val="009999"/>
                </a:solidFill>
                <a:uFillTx/>
                <a:latin typeface="comic"/>
                <a:hlinkClick r:id="rId3"/>
              </a:rPr>
              <a:t>WASHINGTON</a:t>
            </a:r>
            <a:r>
              <a:rPr b="0" lang="en-US" sz="2800" spc="-1" strike="noStrike" u="sng">
                <a:solidFill>
                  <a:srgbClr val="000000"/>
                </a:solidFill>
                <a:uFillTx/>
                <a:latin typeface="comic"/>
              </a:rPr>
              <a:t>, SAID IN A DEBATE OF THE REPUBLICAN CANDIDATES FOR PRESIDENT THAT FORMER SENATOR </a:t>
            </a:r>
            <a:r>
              <a:rPr b="0" lang="en-US" sz="2800" spc="-1" strike="noStrike" u="sng">
                <a:solidFill>
                  <a:srgbClr val="009999"/>
                </a:solidFill>
                <a:uFillTx/>
                <a:latin typeface="comic"/>
                <a:hlinkClick r:id="rId4"/>
              </a:rPr>
              <a:t>RICK SANTORUM</a:t>
            </a:r>
            <a:r>
              <a:rPr b="0" lang="en-US" sz="2800" spc="-1" strike="noStrike" u="sng">
                <a:solidFill>
                  <a:srgbClr val="000000"/>
                </a:solidFill>
                <a:uFillTx/>
                <a:latin typeface="comic"/>
              </a:rPr>
              <a:t> OF </a:t>
            </a:r>
            <a:r>
              <a:rPr b="0" lang="en-US" sz="2800" spc="-1" strike="noStrike" u="sng">
                <a:solidFill>
                  <a:srgbClr val="009999"/>
                </a:solidFill>
                <a:uFillTx/>
                <a:latin typeface="comic"/>
                <a:hlinkClick r:id="rId5"/>
              </a:rPr>
              <a:t>PENNSYLVANIA</a:t>
            </a:r>
            <a:r>
              <a:rPr b="0" lang="en-US" sz="2800" spc="-1" strike="noStrike" u="sng">
                <a:solidFill>
                  <a:srgbClr val="000000"/>
                </a:solidFill>
                <a:uFillTx/>
                <a:latin typeface="comic"/>
              </a:rPr>
              <a:t> IS “A BIG- GOVERNMENT CONSERVATIVE” WHO SUPPORTED EXCESSIVE SPEND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SANTORUM RESPONDED BY CALLING PAUL’S COMMENTS “A RIDICULOUS CHARGE.” HE ALSO DEFENDED THE MONEY HE STEERED TO HIS STATE WHILE IN CONGR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erest Group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 hint about picking your political icons: Don't trust anyone who promises something along the lines of "If we do X, then we'll have Utopia."</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t the frequent refrain I'll now give to my 20-something Paul-supporting straw man goes like this: "I'm with Ron Paul. Get the government out of everything."</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righty, Straw Man, fair enough—let's unpack that. We don't have the space here to go into all the crazy regressive policies that entails, so let's try easy-to-understand examples.</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ul promises to cut $1 trillion his first year in office. What this means—as any economist outside of maybe the Heritage Foundation will tell you—is the immediate triggering of a depression. Not this pantywaist Great Recession we've all been muddling through since 2007—a full-blown depressio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o achieve this $1 trillion cut, you want to eliminate five departments of government, as Paul does, it's important to understand that they do stuff people truly depend on—including you, Straw Ma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instance, Paul wants to eliminate the Commerce Department, under whose auspices operates the Internet Corporation for Assigned Names and Numbers, which oversees the assignment of domain names and Web addresses. Currently, Commerce may have to stop ICANN from rapidly expanding top-level domain names beyond .com, .net and a handful of others and creating chaos online. Or maybe it's OK if there's no oversight of ICANN and we can have 34,000 http://www.ronpaul websites leading to crush porn.</a:t>
            </a:r>
            <a:endParaRPr b="0" lang="en-US" sz="1600" spc="-1" strike="noStrike">
              <a:solidFill>
                <a:srgbClr val="000000"/>
              </a:solidFill>
              <a:latin typeface="Arial"/>
            </a:endParaRPr>
          </a:p>
          <a:p>
            <a:pPr marL="322200" indent="-3222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take the Energy Department—also on Paul's list for elimination—in which resides much of the government's knowledge on nuclear terrorism. Presumably, Straw Man, it's in your interest that a terrorist group does not detonate a nuclear weapon in Chicago, yet I found no Paul-endorsed free market explanation for why Pepsi would want to take care of that for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Auto Biography  1</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Ronald Earnest Paul was born on August 20, 1935 in Pittsburgh, Pennsylvania. He was a doctor in the U.S. Air Force and National Guard. He also opened his own practice and is believed to have delivered more than 4,000 babi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0" y="5029200"/>
            <a:ext cx="16635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48" name="PlaceHolder 2"/>
          <p:cNvSpPr>
            <a:spLocks noGrp="1"/>
          </p:cNvSpPr>
          <p:nvPr>
            <p:ph/>
          </p:nvPr>
        </p:nvSpPr>
        <p:spPr>
          <a:xfrm>
            <a:off x="457200" y="7621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In his last year of college, Ron Paul married Carol. After he graduated in 1957, the couple moved to Durham, North Carolina, where Ron attended the Duke University School of Medicine. Finishing his degree in 1961, he and his young family then moved to Detroit, Michigan. There Paul did his internship and residency at Henry Ford Hospital. Serving his country, he was as a doctor in the United States Air Force from 1963 to 1965 and then with the United States Air National Guard from 1965 to 19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endParaRPr b="0" lang="en-US" sz="4000" spc="-1" strike="noStrike">
              <a:solidFill>
                <a:srgbClr val="000000"/>
              </a:solidFill>
              <a:latin typeface="Arial"/>
            </a:endParaRPr>
          </a:p>
        </p:txBody>
      </p:sp>
      <p:sp>
        <p:nvSpPr>
          <p:cNvPr id="50"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Specializing in obstetrics and gynecology, Paul opened his own practice in Texas. During the course of his career, he is said to have delivered more than 4,000 babies. In the 1970s, Paul became active in politics, making a failed Congressional bid in 1974. But he was victorious two years later in a special election to replace Representative Robert R. Casey who had resigned. That same year, he established the Foundation for Rational Economics and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290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PO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ax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Ron Paul's campaign slogan for 2004 was  The Taxpayers' Best Friend! </a:t>
            </a:r>
            <a:endParaRPr b="0" lang="en-US" sz="3200" spc="-1" strike="noStrike">
              <a:solidFill>
                <a:srgbClr val="000000"/>
              </a:solidFill>
              <a:latin typeface="Arial"/>
            </a:endParaRPr>
          </a:p>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However, during the 2011 CPAC conference, he said he would support a flat income tax of 10 %.</a:t>
            </a:r>
            <a:endParaRPr b="0" lang="en-US" sz="3200" spc="-1" strike="noStrike">
              <a:solidFill>
                <a:srgbClr val="000000"/>
              </a:solidFill>
              <a:latin typeface="Arial"/>
            </a:endParaRPr>
          </a:p>
          <a:p>
            <a:pPr marL="329040" indent="-32904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He has asserted that Congress had no power to impose a direct income tax and supports the repeal of the sixteenth amendment. </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mmigration polic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r>
              <a:rPr b="1" lang="en-US" sz="3600" spc="-1" strike="noStrike">
                <a:solidFill>
                  <a:srgbClr val="000000"/>
                </a:solidFill>
                <a:latin typeface="comic"/>
              </a:rPr>
              <a:t>Physically secure our borders and coastline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Enforce visa rule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No amnesty</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No welfare for illegal aliens</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End birthright citizenship</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609480">
              <a:lnSpc>
                <a:spcPct val="100000"/>
              </a:lnSpc>
              <a:spcBef>
                <a:spcPts val="901"/>
              </a:spcBef>
              <a:buClr>
                <a:srgbClr val="000000"/>
              </a:buClr>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ass true immigration reform</a:t>
            </a:r>
            <a:r>
              <a:rPr b="0" lang="en-US" sz="3600" spc="-1" strike="noStrike">
                <a:solidFill>
                  <a:srgbClr val="000000"/>
                </a:solidFill>
                <a:latin typeface="comic"/>
              </a:rPr>
              <a:t> </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ealthca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But Obamacare is the worst possible answer. All it does is perpetuate a flawed system by forcing everyone to become a client of insurance companies, even those who don’t want to or need to participate</a:t>
            </a:r>
            <a:r>
              <a:rPr b="0" lang="en-US" sz="3600" spc="-1" strike="noStrike">
                <a:solidFill>
                  <a:srgbClr val="000000"/>
                </a:solidFill>
                <a:latin typeface="comic"/>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War in the Middle East</a:t>
            </a:r>
            <a:endParaRPr b="0" lang="en-US" sz="4400" spc="-1" strike="noStrike">
              <a:solidFill>
                <a:srgbClr val="000000"/>
              </a:solidFill>
              <a:latin typeface="Arial"/>
            </a:endParaRPr>
          </a:p>
        </p:txBody>
      </p:sp>
      <p:sp>
        <p:nvSpPr>
          <p:cNvPr id="59" name="PlaceHolder 2"/>
          <p:cNvSpPr>
            <a:spLocks noGrp="1"/>
          </p:cNvSpPr>
          <p:nvPr>
            <p:ph/>
          </p:nvPr>
        </p:nvSpPr>
        <p:spPr>
          <a:xfrm>
            <a:off x="228600" y="19051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He also said he would not respond militarily to keep the strait open because he would not consider it an act of war against the U.S.  But if he were president, he would report to Congress on the issue, leaving it up to lawmakers to declare war if they want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I think we're looking for trouble because we put these horrendous sanctions on Iran," Paul told a midday audience at the Hotel Pattee in Perry, Iowa.  He said the Iranians are "planning to be bombed" and understandably would like to have a nuclear weapon, even though there is "no evidence whatsoever" that they have "enriched" uranium.</a:t>
            </a:r>
            <a:endParaRPr b="0" lang="en-US" sz="24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3:29:30Z</dcterms:created>
  <dc:creator>dcsuser</dc:creator>
  <dc:description/>
  <dc:language>en-US</dc:language>
  <cp:lastModifiedBy>dcsuser</cp:lastModifiedBy>
  <dcterms:modified xsi:type="dcterms:W3CDTF">2012-01-09T14:43:09Z</dcterms:modified>
  <cp:revision>10</cp:revision>
  <dc:subject/>
  <dc:title>Slide 1</dc:title>
</cp:coreProperties>
</file>